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95E-FF5E-4F67-8A36-E9E5DA17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B48B-146F-438F-88DC-A2A7E831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77905-1DD3-41C4-B3CC-2DEA2FC5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0F056-2553-4649-B43E-62E4CB45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FA5CB-AA72-4329-9800-66A41BA1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B1D7B-FF04-4670-9179-33FFFCF0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8C2A1-5A01-4AEC-AFED-8C78E25C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B43E4-76CE-4F55-A267-4833D884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69D2A-50D3-4C81-A7BA-D697050F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8CB83-4D89-4FD1-835A-B432C1A2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3200C-150A-4D8A-82EF-DC7948B1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18468-FBF5-4F7F-8CA4-CA7D2FC2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382-102F-449F-996F-EF7D9F73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DBA10-54EF-4FC8-BAAC-C44D41F7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0B072-D9CA-4EE3-9C55-537E20BE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2E8D5-5555-4CFF-8C2F-AD04112E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5E436-8626-4590-951F-360B8FE9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16274-895A-46BF-95B9-204A4B6A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A1386-36C1-4A8F-AF80-324B99AD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88CE4-1CCE-4765-8CC9-7C882E2D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4C32B-3713-484F-92D7-6304D3F5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807A0-D11B-407D-A218-92DF8609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8B4CD-8DC2-466C-B666-534675B9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5E3-79F0-4097-9CAC-A8F07DDF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F08FB-4363-4952-8B47-8F3BED70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8442B-1B43-4984-90CC-FF3B0F22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AA7BC-A471-46B9-8A08-E053B88F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86DD9-BD45-4CD2-A147-C37BE693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6DEB9-EE65-4D2E-92D0-5FC123D5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80BC6-2425-4DE6-9797-3C3CD839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7D564-136F-4093-98C7-92B341F1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FC201-253B-48CB-AAE7-029A3750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4E62C-51E4-465D-94C6-0EAD39A8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C3884-8E66-4B4B-826E-85C5F5A3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2C69-862B-4818-861F-C593AF42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D3A9D-380C-43CA-B763-C478910E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409AC-2A34-483B-B0FA-DBB7EC10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57BC1-B791-498C-83B7-578DA933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C28B1-7ACC-4603-9F2D-D75DACEE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5140E-226C-45AD-B701-04F7E706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1BD78-72DF-479C-AA65-CF8E2387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A000F-AD4F-4F23-AF76-40BC69DF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EC149-EAE7-4182-83DC-FF7BE0A9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C8C78-4532-45EB-B63A-BADB724A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88E0A-77A0-463D-807D-823C4C78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EDAD-2451-4939-8AF7-D0E01838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4D92B-F6D6-4544-B1EB-A196D8B7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4C6F0-2F4F-44A9-A408-75A4C81A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995DF-8FCF-4154-9446-7983215B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69AEE-BC1B-47B5-A95F-8E7AFEAD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A0DDB-A236-4467-9539-1BA45A4C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0189F-2615-4517-9B16-7E13E098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BE324-B636-4209-832B-60AD3EF2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7477C-8420-489D-B7FC-5749D823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FA3BC-11F8-4EE5-90C4-A9A0DEDE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C9F13-29BE-4C0D-9794-3E3A0CFA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7112-D56D-4A2A-8C23-D81C3798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04415-7518-491E-87F3-9C0570B0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885E4-2846-4C0C-8623-B7661C0A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4F1B4C-C130-4794-B7AB-6AC835A2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82781-2EB3-4931-9616-3FBF116A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9C016-2306-4E5D-AF84-037C443B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F78C8-47B3-4623-92EC-E33BED81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78FDC5-2510-4525-BE03-9D646E63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0FA3DF-244D-46F5-9546-0F0CB1BD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390A9-AE43-448D-BC7A-010E11CF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B49897-C33A-44C2-9993-E7E996A9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9A59-9012-4DDF-A4B4-4F941658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4C48E-44B6-4060-86C4-00A5C648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6984C-8AB1-4861-9D1D-461F48A5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947D16-909E-4FDC-AF02-2A887515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D17488-A4A0-4EA7-821B-00430930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DCA9A6-B933-47B3-964F-2FA5C89F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2CD8F7-4ADD-46CA-88DF-09C83A96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EDB891-F56D-4BB3-AC62-8F77D0CD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8DE3C-2301-4F2D-B08A-CAAC10C7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5CFB7-C2BD-4008-85AC-A0A3AE58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A72A4D-6842-4C1C-8288-1AC175C1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59CC-7B60-4B1B-A0BD-19E84F7E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659B1-A80C-4643-8CAE-3294E23A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65B63E-1021-4A15-8572-18758F06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A68042-8714-4E22-A4B6-ECB54543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1314AC-DB9E-4CC3-A5BD-F3136249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1AD31B-9006-49F6-9BDF-49BFE283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B86B52-E340-4C64-AA2F-AFF12250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C917D-FA88-4C20-8E37-85EB1AC4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C6CB5-D885-49D6-A13A-C55FC9A4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4369A-74FE-418E-B68E-A98985D5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2E37B5-23A6-4A02-9B97-BD63B6C1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3A0E-F648-45C1-B4DF-3E04AFC8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0C5EE7-CED3-4E23-A512-FB730213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09A306-65F9-4472-AAC2-BA91C67C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C633A3-6779-4D79-AEB7-A546645E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D80BC2-E1A7-46B2-BD33-0376B69A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052FCF-FE07-492D-9843-DA1B6057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19FDCD-E011-4A7D-8BEB-61B57A7B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1C71F5-39E5-4238-9918-934190CC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216E4A-DD63-4CB5-B1CA-02C5E732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F9E61-1B24-4708-9759-379F7242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119D39-BDEF-4E4D-9B0B-DCF1B89F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4FEE-DE54-4960-A6B5-C1934198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208D89-1017-4479-97AB-97967D29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25E8C2-C0B8-4E9F-80A6-49AE1FCB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FC2561-350B-4C41-A55C-C04DFB57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CD4876-FA38-476D-8F21-311F1F4A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A57925-8BDB-43AD-BF6D-28738A5B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68DC1D-DDD7-455F-BAB7-B75F9118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EDCAF6-3390-46DF-BF07-8B1D52E4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C7BF18-697D-465E-BC7D-7555A08E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C90FBB-9CD8-41EE-BF58-CF9280CA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940A25-53A3-4DF3-BB07-7E46855E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C92-EBB9-4AAB-97A3-1EBFA157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09FE-4C53-4FBD-9DFD-91E3016E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D872D9-3FD8-4A20-896D-2CF8C7EC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6CAE74-65E6-4C36-96EB-0EDC726F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32CC4-B322-4D41-ADA7-07BFFE27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3AE778-81BE-45A0-9C17-D7D2EC9F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6E28E1-86A5-4D1B-AF20-EBDD1334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46015-ABFF-4D12-B2E7-1D4C7A11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0175E9-813E-48B5-891E-6EABBDE4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EFD530-5AF4-4D2A-A8E3-BF3E0755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2692F7-8816-4E1B-8721-FA119DAC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64DABB-B000-48CE-BF57-C5E40107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4109-E3AA-4CD7-AD78-23F35B61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80CBC1-E5E6-4378-B6B5-8A9B6FA3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CFF630-89C3-4E58-B0BB-61D899CB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EDD72F-EAF5-4F36-874B-B6EE034D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2AAAB6-BA1E-4CC7-9316-6DD170ED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472E82-5704-4455-8810-00287F2F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F45B16-6817-425B-8349-F3F33F39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0D31A3-669C-460A-890C-79966D58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DD91C7-C738-48F3-82F3-A35068AD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6498CF-226F-4F32-973C-4EA20087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C30024-3139-44EF-8D18-8324BCE8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183F-BFD0-4486-945F-B2DDEF5D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DC46FF-8DEA-4922-87EF-B70DCB92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BEDAAE-AC19-4A63-8B53-6641172C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72A409-29FB-4F14-8919-0EA8828F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732775-C2DB-42B7-8C74-41BEA6BD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6021BD-9BFB-48FA-B7D4-2FEE1F20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78A4C7-DCAD-4500-916A-4B7E19B2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E86E18-C508-4062-97B9-2E7E89AC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A39069-D11B-46CF-A9AC-566E24BA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D5E14C-1EB1-4AD5-B0B4-A24697A5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20E7B3-FDF2-4687-B868-00AA6DE8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8328-1B7D-4ECE-8BDC-F116CE75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D72B17-21CE-44D3-8007-7489F436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876C0B-B7D5-4A9A-BFF2-A6F9C1AF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939F0A-C2D7-4511-8C74-1DF16ED8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4C1458-1ED9-4261-9684-6157018D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C011B5-2E09-4640-8EBC-EA14E6C2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1A91AE-DFF2-40B4-B69E-9EF3EFD0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34C141-B132-4B25-B18A-C1324573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B4C2D-296D-4EC7-8FDF-5B33590A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7B8BB9-9EE3-4D27-8B19-E19CC001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0A8B4E-A4D9-4005-B671-CF02CB54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2870-A2B9-418B-876C-0E9E3625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B25E6E-C061-437C-819C-A4D75031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6DC83F-A8C8-447C-8617-59F142E6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DD35F2-010A-4200-8F66-BE64F648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99039F-1FA0-4AE1-8149-06E15BE4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E9C58D-2ACF-4FA1-B6BB-E0D13C99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FAE2FE-BE80-4D24-97A0-D6385302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0B0A1F-5684-4852-B693-0181D838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7BD185-5FCD-4DA1-B3B5-003EC899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97099D-7187-489E-AD29-69B56B5B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348301-C050-4A76-B858-C3C3A5AC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93039-F4C6-49A6-8FB8-06E20C84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C37AE0-054F-4FF2-AAD3-205A1150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05BB86-6ABB-4E21-915A-146B24E0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0075C9-02C2-4BAC-BC60-7CA09D11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5C8A4-E0E1-4231-9F63-458C2C5A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B4F9D-A5C1-43B2-BB73-9905DB3F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99251-C62F-4F73-B21D-1A81690E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A0E3C-5D7B-4857-871C-A06BDF6E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E2A-E045-4A76-A59E-94CC3322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B1A16-8B49-4603-B93F-220316C1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6AD72-391E-4E32-BA54-EBB0ECB8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AF851-E85A-41DE-B31C-CC6AF9DF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D81C2-297E-4A49-8889-BFB95958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43C07-D400-4DA5-9D34-2E8807B0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32A50-A8AE-4F62-90D4-FA6AB616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CA606-C913-4A09-95C8-B33D27A4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5FAC4-BA2D-4028-9A83-BFCED1AE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2708A-E877-41D2-B7F9-AAA15BBA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E115C-A2C9-41F7-B5C5-C586A563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1AD-C341-46F2-8A90-C382BC84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ED9E1-D871-4AEE-ACF3-BFAF8A4E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0F78E-F693-429D-A6EA-70128952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E8126-A24E-4671-924C-811B6CCC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6061D-8F0B-45A5-A6B7-3D6480B7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62567-177B-4990-87C3-33DFB828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0532C-6BC7-42E3-9904-1B86E15C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77D96-1A68-4730-AECF-5D0D0361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1AAD4-3833-46DA-B95A-0F2FA98F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6862D-7570-4592-9F55-E1A7C201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F300C-DEF3-44FD-9E71-0FD84AB0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AF18-5E3B-4A7D-A2CA-BBDA6783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05590-A7A5-4BE1-A0BE-E810D252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1A5E5-96DB-40AA-AC83-D4A302E2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CABD6-A652-45BE-AEB2-91A75003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F2472-5EBA-436B-8408-26FD65D6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A325F-6763-467C-9160-B4CD5CA4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55CF2-B9E2-4188-97E0-2B82F895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0F274-10EB-4445-96E0-873D3411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762C1-E768-4036-A1CC-2500D3EB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57BE8-02D4-4402-91CB-DF1C7FAC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B14CF-6803-4230-AD2E-1E8D3FD3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169-E182-4A47-BDE1-58581B53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9BE29-4223-4B38-8563-E4E37BDB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A4D53-7741-467B-A8FC-C1CC5CD3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C2C30-3804-48FE-8CB4-2E693436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4010A-6CE3-416C-9DD0-31081D9F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A4882-35F4-4CF4-B6EC-A412F1E1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3F82B-4C42-483D-83C6-D76A353F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DA25E-0725-46A6-A445-93DF99F0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E94ED-1870-4180-A341-5C4D1599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92611-C970-4F58-B67C-CD05FF1D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9AF72-3346-48EF-9345-F987798D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9D3-E429-4628-AA24-1E77383E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6A25E-3B46-41FC-B813-55DF3BD8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9A357-E1EA-4CF7-9683-C680721F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21103-9275-4CB5-A2E0-3119BD6A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74098-6A31-4917-8BF8-5A8F7E8B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655B8-FC43-4161-A209-E327410C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30F24-C6CF-4EB0-B268-76DF10DE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85714-8169-4638-A98D-23E21BED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3BADE-5268-4604-B434-F6AC0299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48618-0CC7-4871-B3AF-01F0B55E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67685-CAA8-4B76-B82E-125820D9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156-87FD-44AB-AE29-03BBEB04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0839F-43D6-49E6-AE4F-D6EE6BDD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83E6D-BBF7-4C5E-9C30-7ED71CA7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3288C-767F-4FE3-9C3D-A477C068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A3304-E7AB-4448-BF65-78EC8054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62153-D1EC-4A7C-9496-22948BFB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EB35E-ABDA-4336-9900-64043171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C68D4-7934-41F1-8FFD-48244593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AD72B-0D05-44D6-B0E7-80B0F580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92876-B18F-45AE-8EE7-88202C02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2BFB3-A798-4561-9474-73BA91BE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2142-41D8-4C29-9549-84B02420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80CA8-7CB2-4D73-B03F-67333A60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1ECB5-B174-4A5C-8958-074AAA85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75140-5326-451E-814B-6579DF20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60F78-A673-49E5-99FF-12105462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1ADA7-2DB1-4676-9420-36309112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B189C-B5C5-425D-9FCD-FC201586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19345-0BFD-4F21-96CA-45702E54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05964-6BC9-4F8B-A424-AF3773F2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01070-F848-4B7D-8D4C-82F712CB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0E3D9-A1D4-448C-AC3F-068CADD8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6D5E-D8B4-4DB0-93C9-D138800917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D2D1-EAEF-4E06-9903-7C63DAAF08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9711-9966-4A47-9B17-7298B41564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4FB3-185E-48A2-8B5C-905CF23901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2BCE-690C-492A-968D-498C1D20AF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99AE-3DFA-43E7-8374-1C17413AD2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A1C0-1C67-4C42-9B3A-9A69864EB1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1D25-24BD-4FFA-9490-5F64B0536D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8F43-0FF1-4697-AE12-F3D629A033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4BA7-1D7E-4DA0-8AE7-5E2404240F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A99D-C06A-48B2-91B1-AB7CDE69E9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CC40-10C6-466D-9A7C-342543945F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FC19-F8FD-4831-8B7A-8E246DFB3D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E26F-D895-4F9E-BE5C-4157F530E9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95AB-F2E2-4AFC-A6E3-AD19E531F1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43EF-EFA5-4803-B1EC-33C7FB6A5F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94C1-7FFD-4635-92D3-5BCCE38707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DC79-25E4-4952-9749-667732E01B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9BA4-3C65-4674-BB4B-C5ACE28423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2E90-4EAD-42D4-B149-0F05AC5924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A42C-FFDE-4DAC-B84F-DA6662D743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B59B-376D-43F7-BC85-66D2DFB9E0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71A3-3FCA-42D9-85FA-18C25396F5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B211-3542-40A2-8682-B228B04888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4DBE-92B3-408A-A31E-19E407A149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3A87-9AC3-4355-8187-12410DD95C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6197-0881-451D-9845-6135D3C79F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61A5-B600-4BB6-A96B-300639B389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22A3-6CBF-4E00-B630-4F682B6CB3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B93E-00B0-4A2E-AF98-B7D2B96962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D011-2ED6-46ED-BBD3-A0EACD7E57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4CC6-3346-4227-A6BE-CB727A314A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1B5E-1653-4EF2-932C-FEF75EA4DC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E3C2-0C77-4C74-8E3E-FDF0C64FBB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E3B9-E90F-450D-9298-AFEFB15F6D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C3A1-1EA7-43AF-9B78-0AA4808CF4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DA59-FCC5-4B0A-9E33-FD23D3AF11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E227-2615-48DB-9DAF-AB6E86951F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A3FF-2E88-46B1-BF91-B9033C7B4B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C901-86A4-479C-B921-715A735D44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409840" y="3205080"/>
            <a:ext cx="43243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85920" y="1209600"/>
            <a:ext cx="8372160" cy="44388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622840" y="1873080"/>
            <a:ext cx="476280" cy="3193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635280" y="2622600"/>
            <a:ext cx="64944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995640" y="5114880"/>
            <a:ext cx="649440" cy="318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012000" y="5114880"/>
            <a:ext cx="64908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885080" y="5113440"/>
            <a:ext cx="6494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262080" y="237960"/>
            <a:ext cx="8619840" cy="63820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3808440" y="3905280"/>
            <a:ext cx="476280" cy="318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4932360" y="3889440"/>
            <a:ext cx="47628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6300720" y="3919680"/>
            <a:ext cx="476280" cy="3189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8359920" y="3400560"/>
            <a:ext cx="33012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8345520" y="3789360"/>
            <a:ext cx="33012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8388360" y="4119480"/>
            <a:ext cx="330120" cy="3193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8"/>
          <a:stretch/>
        </p:blipFill>
        <p:spPr>
          <a:xfrm>
            <a:off x="8359920" y="4508640"/>
            <a:ext cx="33012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9"/>
          <a:stretch/>
        </p:blipFill>
        <p:spPr>
          <a:xfrm>
            <a:off x="8331120" y="4897440"/>
            <a:ext cx="330120" cy="318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0"/>
          <a:stretch/>
        </p:blipFill>
        <p:spPr>
          <a:xfrm>
            <a:off x="8359920" y="5300640"/>
            <a:ext cx="330120" cy="31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1"/>
          <a:stretch/>
        </p:blipFill>
        <p:spPr>
          <a:xfrm>
            <a:off x="8373960" y="5618160"/>
            <a:ext cx="330480" cy="3189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2"/>
          <a:stretch/>
        </p:blipFill>
        <p:spPr>
          <a:xfrm>
            <a:off x="8345520" y="6021360"/>
            <a:ext cx="330120" cy="31896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59423" descr=""/>
          <p:cNvPicPr/>
          <p:nvPr/>
        </p:nvPicPr>
        <p:blipFill>
          <a:blip r:embed="rId13"/>
          <a:stretch/>
        </p:blipFill>
        <p:spPr>
          <a:xfrm>
            <a:off x="3059280" y="677880"/>
            <a:ext cx="4209840" cy="192420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9424" descr=""/>
          <p:cNvPicPr/>
          <p:nvPr/>
        </p:nvPicPr>
        <p:blipFill>
          <a:blip r:embed="rId14"/>
          <a:stretch/>
        </p:blipFill>
        <p:spPr>
          <a:xfrm>
            <a:off x="3995640" y="4667400"/>
            <a:ext cx="30672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12:3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